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933-5FB7-47B6-89B7-118F15AD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72D-280E-4E54-9860-EFD980B2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ADF4-3016-4D62-BE3A-34B3B209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4A2-14CA-402B-8F02-965EE85F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8E8-D848-4056-8CF6-8D59D7F1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B34B-BD86-42DF-BDA0-B14BF1C3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6BEF-B989-4CBB-A199-784F4D5E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7B9-DF68-44E7-B068-168F7150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BB7-589D-4B4F-B1F4-2E6AA1A9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D1F-120E-4870-A690-879A5C5D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58F-673F-4E31-90C1-1F9AFF41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950F-14A3-40BD-858E-7A425459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521F-1FCB-44C9-8A88-703F9280A42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200712298577539_2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628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2"/>
          <p:cNvSpPr/>
          <p:nvPr/>
        </p:nvSpPr>
        <p:spPr>
          <a:xfrm>
            <a:off x="4356000" y="1268280"/>
            <a:ext cx="46515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esson 1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Magic St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3" descr="200712298577539_2"/>
          <p:cNvPicPr/>
          <p:nvPr/>
        </p:nvPicPr>
        <p:blipFill>
          <a:blip r:embed="rId1"/>
          <a:stretch/>
        </p:blipFill>
        <p:spPr>
          <a:xfrm>
            <a:off x="0" y="0"/>
            <a:ext cx="914400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0" y="4797360"/>
            <a:ext cx="9144000" cy="2060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矩形 3"/>
          <p:cNvSpPr/>
          <p:nvPr/>
        </p:nvSpPr>
        <p:spPr>
          <a:xfrm>
            <a:off x="1440" y="480060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1763640" y="49417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 Who is in the picture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5"/>
          <p:cNvSpPr/>
          <p:nvPr/>
        </p:nvSpPr>
        <p:spPr>
          <a:xfrm>
            <a:off x="609480" y="6172200"/>
            <a:ext cx="36576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6"/>
          <p:cNvSpPr/>
          <p:nvPr/>
        </p:nvSpPr>
        <p:spPr>
          <a:xfrm>
            <a:off x="2124000" y="55022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 Are they happy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7"/>
          <p:cNvSpPr/>
          <p:nvPr/>
        </p:nvSpPr>
        <p:spPr>
          <a:xfrm>
            <a:off x="100080" y="6018120"/>
            <a:ext cx="898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here is no food for dinner. I’m hungry. I’m sa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QQ截图未命名"/>
          <p:cNvPicPr/>
          <p:nvPr/>
        </p:nvPicPr>
        <p:blipFill>
          <a:blip r:embed="rId1"/>
          <a:srcRect l="4873" t="15494" r="0" b="-13559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1" name="矩形 2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1440" y="458136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4"/>
          <p:cNvSpPr/>
          <p:nvPr/>
        </p:nvSpPr>
        <p:spPr>
          <a:xfrm>
            <a:off x="2700360" y="47242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’s in his 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5"/>
          <p:cNvSpPr/>
          <p:nvPr/>
        </p:nvSpPr>
        <p:spPr>
          <a:xfrm>
            <a:off x="2411640" y="5700600"/>
            <a:ext cx="476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  <a:ea typeface="宋体"/>
              </a:rPr>
              <a:t>“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  <a:ea typeface="宋体"/>
              </a:rPr>
              <a:t>Magic stone, Magic st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  <a:ea typeface="宋体"/>
              </a:rPr>
              <a:t>I have a magic ston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0" y="4221000"/>
            <a:ext cx="9144000" cy="2637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57" name="矩形 3"/>
          <p:cNvSpPr/>
          <p:nvPr/>
        </p:nvSpPr>
        <p:spPr>
          <a:xfrm>
            <a:off x="90360" y="426708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4"/>
          <p:cNvSpPr/>
          <p:nvPr/>
        </p:nvSpPr>
        <p:spPr>
          <a:xfrm>
            <a:off x="2124000" y="44370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’s a magic st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5"/>
          <p:cNvSpPr/>
          <p:nvPr/>
        </p:nvSpPr>
        <p:spPr>
          <a:xfrm>
            <a:off x="3062880" y="551340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  <a:ea typeface="宋体"/>
              </a:rPr>
              <a:t>“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  <a:ea typeface="宋体"/>
              </a:rPr>
              <a:t>It makes soup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矩形 3"/>
          <p:cNvSpPr/>
          <p:nvPr/>
        </p:nvSpPr>
        <p:spPr>
          <a:xfrm>
            <a:off x="0" y="4114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2197800" y="422100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What are they d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"/>
          <p:cNvSpPr/>
          <p:nvPr/>
        </p:nvSpPr>
        <p:spPr>
          <a:xfrm>
            <a:off x="2050920" y="4724280"/>
            <a:ext cx="39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What do they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6"/>
          <p:cNvSpPr/>
          <p:nvPr/>
        </p:nvSpPr>
        <p:spPr>
          <a:xfrm>
            <a:off x="819000" y="5661000"/>
            <a:ext cx="75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  <a:ea typeface="宋体"/>
              </a:rPr>
              <a:t>“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  <a:ea typeface="宋体"/>
              </a:rPr>
              <a:t>We have a magic stone. It makes soup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some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3" descr="20140517014522496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4"/>
          <p:cNvSpPr/>
          <p:nvPr/>
        </p:nvSpPr>
        <p:spPr>
          <a:xfrm>
            <a:off x="469800" y="1074600"/>
            <a:ext cx="62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I have some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5"/>
          <p:cNvSpPr/>
          <p:nvPr/>
        </p:nvSpPr>
        <p:spPr>
          <a:xfrm>
            <a:off x="1284840" y="3132000"/>
            <a:ext cx="4583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 have some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  <a:ea typeface="宋体"/>
              </a:rPr>
              <a:t>chick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 have some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  <a:ea typeface="宋体"/>
              </a:rPr>
              <a:t>f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 have some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  <a:ea typeface="宋体"/>
              </a:rPr>
              <a:t>veget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 have some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  <a:ea typeface="宋体"/>
              </a:rPr>
              <a:t>eg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 have some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  <a:ea typeface="宋体"/>
              </a:rPr>
              <a:t>nood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6"/>
          <p:cNvSpPr/>
          <p:nvPr/>
        </p:nvSpPr>
        <p:spPr>
          <a:xfrm>
            <a:off x="28080" y="250920"/>
            <a:ext cx="891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f you want to make soup, what 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1"/>
          <p:cNvSpPr/>
          <p:nvPr/>
        </p:nvSpPr>
        <p:spPr>
          <a:xfrm>
            <a:off x="0" y="4221000"/>
            <a:ext cx="9144000" cy="2637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2" descr="高兴"/>
          <p:cNvPicPr/>
          <p:nvPr/>
        </p:nvPicPr>
        <p:blipFill>
          <a:blip r:embed="rId1"/>
          <a:stretch/>
        </p:blipFill>
        <p:spPr>
          <a:xfrm>
            <a:off x="0" y="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74" name="矩形 3"/>
          <p:cNvSpPr/>
          <p:nvPr/>
        </p:nvSpPr>
        <p:spPr>
          <a:xfrm>
            <a:off x="241560" y="4503600"/>
            <a:ext cx="21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Question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2050920" y="46386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are they doing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5"/>
          <p:cNvSpPr/>
          <p:nvPr/>
        </p:nvSpPr>
        <p:spPr>
          <a:xfrm>
            <a:off x="1483920" y="5729400"/>
            <a:ext cx="55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  <a:ea typeface="宋体"/>
              </a:rPr>
              <a:t>“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  <a:ea typeface="宋体"/>
              </a:rPr>
              <a:t>The soup is ready. Let’s ea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3" descr="40"/>
          <p:cNvPicPr/>
          <p:nvPr/>
        </p:nvPicPr>
        <p:blipFill>
          <a:blip r:embed="rId1"/>
          <a:stretch/>
        </p:blipFill>
        <p:spPr>
          <a:xfrm>
            <a:off x="-181080" y="0"/>
            <a:ext cx="9541080" cy="712476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4"/>
          <p:cNvSpPr/>
          <p:nvPr/>
        </p:nvSpPr>
        <p:spPr>
          <a:xfrm>
            <a:off x="1455840" y="2998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"/>
          <p:cNvSpPr/>
          <p:nvPr/>
        </p:nvSpPr>
        <p:spPr>
          <a:xfrm>
            <a:off x="1332000" y="617400"/>
            <a:ext cx="33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t’s make s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6"/>
          <p:cNvSpPr/>
          <p:nvPr/>
        </p:nvSpPr>
        <p:spPr>
          <a:xfrm>
            <a:off x="1433160" y="1916280"/>
            <a:ext cx="514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 have some    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7"/>
          <p:cNvSpPr/>
          <p:nvPr/>
        </p:nvSpPr>
        <p:spPr>
          <a:xfrm>
            <a:off x="1415880" y="2781360"/>
            <a:ext cx="514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 have some    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8"/>
          <p:cNvSpPr/>
          <p:nvPr/>
        </p:nvSpPr>
        <p:spPr>
          <a:xfrm>
            <a:off x="1415880" y="3645000"/>
            <a:ext cx="514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 have some    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9"/>
          <p:cNvSpPr/>
          <p:nvPr/>
        </p:nvSpPr>
        <p:spPr>
          <a:xfrm>
            <a:off x="2198880" y="4433760"/>
            <a:ext cx="47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e    soup    is    read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0"/>
          <p:cNvSpPr/>
          <p:nvPr/>
        </p:nvSpPr>
        <p:spPr>
          <a:xfrm>
            <a:off x="1506600" y="1187280"/>
            <a:ext cx="57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Stone,   Stone,     Magic st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40"/>
          <p:cNvPicPr/>
          <p:nvPr/>
        </p:nvPicPr>
        <p:blipFill>
          <a:blip r:embed="rId1"/>
          <a:stretch/>
        </p:blipFill>
        <p:spPr>
          <a:xfrm>
            <a:off x="-252360" y="-171360"/>
            <a:ext cx="9667800" cy="721980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2"/>
          <p:cNvSpPr/>
          <p:nvPr/>
        </p:nvSpPr>
        <p:spPr>
          <a:xfrm>
            <a:off x="1722960" y="1076400"/>
            <a:ext cx="445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I have some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鸡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I have some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I have some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蔬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I have some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鸡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I have some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面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4:27:56Z</dcterms:created>
  <dc:creator>User</dc:creator>
  <dc:description/>
  <dc:language>en-US</dc:language>
  <cp:lastModifiedBy>acer1</cp:lastModifiedBy>
  <dcterms:modified xsi:type="dcterms:W3CDTF">2015-10-16T02:51:46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251</vt:lpwstr>
  </property>
</Properties>
</file>